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7A1-9A6D-48EC-A66C-070A10CF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F9F2-0A7F-497A-A0F6-5B9C5DDE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415-E84F-4B28-A991-B8807954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FBF-CC8E-43E4-9855-98F88B2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D66-2AF1-4176-BB97-234DB129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6F4-8D35-4241-A6C7-BC9D2AE0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D2F-6B0E-4E23-BEF4-A498F10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904-3F40-4A76-BEF8-8FB524DA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843-F8B1-455E-AA66-56C689D0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4CD-AEFB-4A50-9161-F8317C7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59B-784F-40AE-8967-478E792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98D-F0A0-4C8E-9F27-3017A4E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873-E1C1-450D-85AF-EBFAA953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092-65AA-44EC-A4B5-61C822E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AF7-6E05-42FF-BB5B-EE22E361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eik Florade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93960"/>
            <a:ext cx="1752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heik. Yo vivo en New York. Tengo catorce años. Tengo dos herman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82960"/>
            <a:ext cx="46332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038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 Jessica. Mi familia esta bien también. Extraña tu hermana tambié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 su foto de la fiesta, ella es boni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004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ess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enorita. Yo soy muy bueno, gracias. ¿Y tu? Mi familia es bien. M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ermana dijo hola. Y ella extraña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mi amigos. ¿Como estas? ¿Y como son tu famili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ss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 ella es bonita y inteligente. ¿dónde esta hermano? ¿qué es tu herman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21Z</dcterms:modified>
  <cp:revision>109</cp:revision>
  <dc:subject/>
  <dc:title>Profile</dc:title>
</cp:coreProperties>
</file>